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10.gif" ContentType="image/gif"/>
  <Override PartName="/ppt/media/image12.jpeg" ContentType="image/jpeg"/>
  <Override PartName="/ppt/media/image9.wmf" ContentType="image/x-wmf"/>
  <Override PartName="/ppt/media/image11.jpeg" ContentType="image/jpeg"/>
  <Override PartName="/ppt/media/image7.wmf" ContentType="image/x-wmf"/>
  <Override PartName="/ppt/media/image5.wmf" ContentType="image/x-wmf"/>
  <Override PartName="/ppt/media/image21.jpeg" ContentType="image/jpeg"/>
  <Override PartName="/ppt/media/image16.jpeg" ContentType="image/jpeg"/>
  <Override PartName="/ppt/media/image20.wmf" ContentType="image/x-wmf"/>
  <Override PartName="/ppt/media/image17.wmf" ContentType="image/x-wmf"/>
  <Override PartName="/ppt/media/image15.png" ContentType="image/png"/>
  <Override PartName="/ppt/media/image14.jpeg" ContentType="image/jpeg"/>
  <Override PartName="/ppt/media/image1.png" ContentType="image/png"/>
  <Override PartName="/ppt/media/image2.jpeg" ContentType="image/jpeg"/>
  <Override PartName="/ppt/media/image3.gif" ContentType="image/gif"/>
  <Override PartName="/ppt/media/image6.wmf" ContentType="image/x-wmf"/>
  <Override PartName="/ppt/media/image8.gif" ContentType="image/gif"/>
  <Override PartName="/ppt/media/image19.wmf" ContentType="image/x-wmf"/>
  <Override PartName="/ppt/media/image18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E474-F173-48E8-9B66-AACA823AC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4AB1-3133-49DB-9F7D-6CCB53BCD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CB74-55C4-4243-872D-343E2699C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4C60-2285-4325-A09F-C61B679AD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53581-6658-43F7-A385-D41505378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DF2C6-F94E-4B34-9F56-32C74F821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BCA04-CD30-420F-A341-AD1AB3004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12FF0-B818-4AF6-BE64-6BF5803FA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14DEE-BA3B-4354-B5AF-545A5B61C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EEED5-3C7D-451B-BF09-68DC825A8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B5248-B711-4790-9F7E-1E4919C8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C2B5-3812-4AEE-B4BE-866E94F2F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184BE-DA50-45CD-9492-C76AC756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6966E-2D54-4D35-BBDF-60717D51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AE42F-03E2-49D0-A9B0-E91C578A7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81C73-7A6F-4788-BD86-FC1707482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4137E-4803-4EE3-ADEE-45ED84EFA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0929-63E4-4620-AE4A-12EE9E8D8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2BEA-1BFB-4F1C-AE68-C9427D65E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785D-706B-41EC-B90C-9B9E1A59E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3122-9FE5-4F84-B567-0A1BC4DA7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5C67-37CD-430C-AE13-85471183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0C99-5A0B-4BAF-9463-74D947ED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7215-7064-4D6E-82D6-46D1A287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45192-E4BA-4979-B1A4-75C704D8CB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61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A7283-A4B2-4F5D-A1C3-A9C89751E1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nchantedlearning.com/subjects/amphibians/frogs.shtml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Frogs</a:t>
            </a:r>
            <a:br>
              <a:rPr sz="4800"/>
            </a:b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Vocabulary and Amazing Words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Grade Rea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8229600" y="380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MPj03142940000[1]"/>
          <p:cNvPicPr/>
          <p:nvPr/>
        </p:nvPicPr>
        <p:blipFill>
          <a:blip r:embed="rId2"/>
          <a:stretch/>
        </p:blipFill>
        <p:spPr>
          <a:xfrm>
            <a:off x="2971800" y="4608360"/>
            <a:ext cx="3276720" cy="2249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MMj03567310000[1]"/>
          <p:cNvPicPr/>
          <p:nvPr/>
        </p:nvPicPr>
        <p:blipFill>
          <a:blip r:embed="rId3"/>
          <a:stretch/>
        </p:blipFill>
        <p:spPr>
          <a:xfrm>
            <a:off x="685800" y="304920"/>
            <a:ext cx="205740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609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ahoma"/>
              </a:rPr>
              <a:t>spawn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To lay eggs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4" descr="MPj04065990000[1]"/>
          <p:cNvPicPr/>
          <p:nvPr/>
        </p:nvPicPr>
        <p:blipFill>
          <a:blip r:embed="rId1"/>
          <a:stretch/>
        </p:blipFill>
        <p:spPr>
          <a:xfrm>
            <a:off x="2438280" y="3200400"/>
            <a:ext cx="39020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ahoma"/>
              </a:rPr>
              <a:t>bulges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Curves outward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4" descr="MPj04069170000[1]"/>
          <p:cNvPicPr/>
          <p:nvPr/>
        </p:nvPicPr>
        <p:blipFill>
          <a:blip r:embed="rId1"/>
          <a:stretch/>
        </p:blipFill>
        <p:spPr>
          <a:xfrm>
            <a:off x="2438280" y="2971800"/>
            <a:ext cx="434340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ahoma"/>
              </a:rPr>
              <a:t>vegetarian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Living things that ear only food from plants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4" descr="MCj04134940000[1]"/>
          <p:cNvPicPr/>
          <p:nvPr/>
        </p:nvPicPr>
        <p:blipFill>
          <a:blip r:embed="rId1"/>
          <a:stretch/>
        </p:blipFill>
        <p:spPr>
          <a:xfrm>
            <a:off x="2971800" y="3416400"/>
            <a:ext cx="333684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ahoma"/>
              </a:rPr>
              <a:t>Amazing Words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appearanc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stag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transform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restles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pursu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canopy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forag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forepaw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ahoma"/>
              </a:rPr>
              <a:t>appearance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The way a person, an animal, or a thing looks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4" descr="MPj04286070000[1]"/>
          <p:cNvPicPr/>
          <p:nvPr/>
        </p:nvPicPr>
        <p:blipFill>
          <a:blip r:embed="rId1"/>
          <a:stretch/>
        </p:blipFill>
        <p:spPr>
          <a:xfrm>
            <a:off x="2743200" y="3733920"/>
            <a:ext cx="396252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ahoma"/>
              </a:rPr>
              <a:t>stage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A step or time in a person’s or animal’s life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4" descr="Frog_b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3581280"/>
            <a:ext cx="342900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ahoma"/>
              </a:rPr>
              <a:t>transform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To change something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5" descr="Skywarp, Starscream, and Thundercracker"/>
          <p:cNvPicPr/>
          <p:nvPr/>
        </p:nvPicPr>
        <p:blipFill>
          <a:blip r:embed="rId1"/>
          <a:stretch/>
        </p:blipFill>
        <p:spPr>
          <a:xfrm>
            <a:off x="2362320" y="3124080"/>
            <a:ext cx="419076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ahoma"/>
              </a:rPr>
              <a:t>restless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Not able to be still; wanting a change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4" descr="MCj00787440000[1]"/>
          <p:cNvPicPr/>
          <p:nvPr/>
        </p:nvPicPr>
        <p:blipFill>
          <a:blip r:embed="rId1"/>
          <a:stretch/>
        </p:blipFill>
        <p:spPr>
          <a:xfrm>
            <a:off x="2666880" y="3886200"/>
            <a:ext cx="309564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ahoma"/>
              </a:rPr>
              <a:t>pursue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To follow or chase something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4" descr="Follow"/>
          <p:cNvPicPr/>
          <p:nvPr/>
        </p:nvPicPr>
        <p:blipFill>
          <a:blip r:embed="rId1"/>
          <a:stretch/>
        </p:blipFill>
        <p:spPr>
          <a:xfrm>
            <a:off x="4495680" y="304812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ahoma"/>
              </a:rPr>
              <a:t>canopy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A covering above something else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4" descr="MCj03317210000[1]"/>
          <p:cNvPicPr/>
          <p:nvPr/>
        </p:nvPicPr>
        <p:blipFill>
          <a:blip r:embed="rId1"/>
          <a:stretch/>
        </p:blipFill>
        <p:spPr>
          <a:xfrm>
            <a:off x="3200400" y="3581280"/>
            <a:ext cx="291780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ahoma"/>
              </a:rPr>
              <a:t>Vocabulary Words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on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onderfu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owerfu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sec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raw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ki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he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paw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ulg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vegetaria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ahoma"/>
              </a:rPr>
              <a:t>forage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To go from place to place looking for something, usually food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4" descr="MCj02971430000[1]"/>
          <p:cNvPicPr/>
          <p:nvPr/>
        </p:nvPicPr>
        <p:blipFill>
          <a:blip r:embed="rId1"/>
          <a:stretch/>
        </p:blipFill>
        <p:spPr>
          <a:xfrm>
            <a:off x="3276720" y="4724280"/>
            <a:ext cx="185400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ahoma"/>
              </a:rPr>
              <a:t>forepaw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One of the front feet of an animal with four paws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4" descr="MPj04231210000[1]"/>
          <p:cNvPicPr/>
          <p:nvPr/>
        </p:nvPicPr>
        <p:blipFill>
          <a:blip r:embed="rId1"/>
          <a:stretch/>
        </p:blipFill>
        <p:spPr>
          <a:xfrm>
            <a:off x="3657600" y="3581280"/>
            <a:ext cx="20574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ahoma"/>
              </a:rPr>
              <a:t>pond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A small body of water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4" descr="MPj04074630000[1]"/>
          <p:cNvPicPr/>
          <p:nvPr/>
        </p:nvPicPr>
        <p:blipFill>
          <a:blip r:embed="rId1"/>
          <a:stretch/>
        </p:blipFill>
        <p:spPr>
          <a:xfrm>
            <a:off x="1676520" y="2971800"/>
            <a:ext cx="518148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ahoma"/>
              </a:rPr>
              <a:t>wonderful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Causing wonder or amazement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8458200" y="457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MCj00787480000[1]"/>
          <p:cNvPicPr/>
          <p:nvPr/>
        </p:nvPicPr>
        <p:blipFill>
          <a:blip r:embed="rId2"/>
          <a:stretch/>
        </p:blipFill>
        <p:spPr>
          <a:xfrm>
            <a:off x="5638680" y="2590920"/>
            <a:ext cx="271332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" dur="2268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ahoma"/>
              </a:rPr>
              <a:t>powerful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Having power or great strength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4" descr="MCj00787460000[1]"/>
          <p:cNvPicPr/>
          <p:nvPr/>
        </p:nvPicPr>
        <p:blipFill>
          <a:blip r:embed="rId1"/>
          <a:stretch/>
        </p:blipFill>
        <p:spPr>
          <a:xfrm>
            <a:off x="4038480" y="2286000"/>
            <a:ext cx="432756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ahoma"/>
              </a:rPr>
              <a:t>insects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Animals with six legs and three body parts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4" descr="MCj04300050000[1]"/>
          <p:cNvPicPr/>
          <p:nvPr/>
        </p:nvPicPr>
        <p:blipFill>
          <a:blip r:embed="rId1"/>
          <a:stretch/>
        </p:blipFill>
        <p:spPr>
          <a:xfrm>
            <a:off x="3581280" y="3657600"/>
            <a:ext cx="233856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ahoma"/>
              </a:rPr>
              <a:t>crawls 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Moves slowly on hands and knees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4" descr="MMAG00449_0000[1]"/>
          <p:cNvPicPr/>
          <p:nvPr/>
        </p:nvPicPr>
        <p:blipFill>
          <a:blip r:embed="rId1"/>
          <a:stretch/>
        </p:blipFill>
        <p:spPr>
          <a:xfrm>
            <a:off x="3200400" y="3429000"/>
            <a:ext cx="278136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ahoma"/>
              </a:rPr>
              <a:t>skin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Outer covering of the body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4" descr="MCj03981070000[1]"/>
          <p:cNvPicPr/>
          <p:nvPr/>
        </p:nvPicPr>
        <p:blipFill>
          <a:blip r:embed="rId1"/>
          <a:stretch/>
        </p:blipFill>
        <p:spPr>
          <a:xfrm>
            <a:off x="2209680" y="3276720"/>
            <a:ext cx="4191120" cy="34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ahoma"/>
              </a:rPr>
              <a:t>shed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To drop or lose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4" descr="MMj02347210000[1]"/>
          <p:cNvPicPr/>
          <p:nvPr/>
        </p:nvPicPr>
        <p:blipFill>
          <a:blip r:embed="rId1"/>
          <a:stretch/>
        </p:blipFill>
        <p:spPr>
          <a:xfrm>
            <a:off x="2971800" y="3352680"/>
            <a:ext cx="2322360" cy="27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23:44:03Z</dcterms:created>
  <dc:creator> </dc:creator>
  <dc:description/>
  <dc:language>en-US</dc:language>
  <cp:lastModifiedBy>teacher</cp:lastModifiedBy>
  <dcterms:modified xsi:type="dcterms:W3CDTF">2011-01-19T01:13:13Z</dcterms:modified>
  <cp:revision>4</cp:revision>
  <dc:subject/>
  <dc:title>Frogs Vocabulary and Amazing Words</dc:title>
</cp:coreProperties>
</file>